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7559675"/>
  <p:notesSz cx="8794750" cy="12646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11339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0000" y="4059360"/>
            <a:ext cx="11339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40760" y="176904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000" y="405936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440760" y="405936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365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4000" y="1769040"/>
            <a:ext cx="365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98000" y="1769040"/>
            <a:ext cx="365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30000" y="4059360"/>
            <a:ext cx="365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464000" y="4059360"/>
            <a:ext cx="365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298000" y="4059360"/>
            <a:ext cx="365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30000" y="1769040"/>
            <a:ext cx="11339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11339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55335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0760" y="1769040"/>
            <a:ext cx="55335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30000" y="301320"/>
            <a:ext cx="11339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1769040"/>
            <a:ext cx="55335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" y="405936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55335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440760" y="176904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40760" y="405936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000" y="301320"/>
            <a:ext cx="1133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176904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440760" y="1769040"/>
            <a:ext cx="5533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0000" y="4059360"/>
            <a:ext cx="11339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6"/>
          <p:cNvGrpSpPr/>
          <p:nvPr/>
        </p:nvGrpSpPr>
        <p:grpSpPr>
          <a:xfrm>
            <a:off x="1509480" y="4267080"/>
            <a:ext cx="468720" cy="469800"/>
            <a:chOff x="1509480" y="4267080"/>
            <a:chExt cx="468720" cy="469800"/>
          </a:xfrm>
        </p:grpSpPr>
        <p:sp>
          <p:nvSpPr>
            <p:cNvPr id="1" name="Line 137"/>
            <p:cNvSpPr/>
            <p:nvPr/>
          </p:nvSpPr>
          <p:spPr>
            <a:xfrm flipH="1">
              <a:off x="1509480" y="426708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38"/>
            <p:cNvSpPr/>
            <p:nvPr/>
          </p:nvSpPr>
          <p:spPr>
            <a:xfrm flipV="1">
              <a:off x="1865520" y="4268520"/>
              <a:ext cx="0" cy="46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39"/>
            <p:cNvSpPr/>
            <p:nvPr/>
          </p:nvSpPr>
          <p:spPr>
            <a:xfrm flipV="1">
              <a:off x="1978200" y="4376520"/>
              <a:ext cx="0" cy="36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40"/>
            <p:cNvSpPr/>
            <p:nvPr/>
          </p:nvSpPr>
          <p:spPr>
            <a:xfrm flipH="1">
              <a:off x="1509480" y="4372200"/>
              <a:ext cx="468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230"/>
          <p:cNvGrpSpPr/>
          <p:nvPr/>
        </p:nvGrpSpPr>
        <p:grpSpPr>
          <a:xfrm>
            <a:off x="1538280" y="3312720"/>
            <a:ext cx="360360" cy="934920"/>
            <a:chOff x="1538280" y="3312720"/>
            <a:chExt cx="360360" cy="934920"/>
          </a:xfrm>
        </p:grpSpPr>
        <p:sp>
          <p:nvSpPr>
            <p:cNvPr id="6" name="Line 141"/>
            <p:cNvSpPr/>
            <p:nvPr/>
          </p:nvSpPr>
          <p:spPr>
            <a:xfrm>
              <a:off x="1538280" y="375444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2"/>
            <p:cNvSpPr/>
            <p:nvPr/>
          </p:nvSpPr>
          <p:spPr>
            <a:xfrm flipV="1">
              <a:off x="1808280" y="3312720"/>
              <a:ext cx="0" cy="93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228"/>
          <p:cNvGrpSpPr/>
          <p:nvPr/>
        </p:nvGrpSpPr>
        <p:grpSpPr>
          <a:xfrm>
            <a:off x="10739520" y="3312720"/>
            <a:ext cx="360360" cy="934920"/>
            <a:chOff x="10739520" y="3312720"/>
            <a:chExt cx="360360" cy="934920"/>
          </a:xfrm>
        </p:grpSpPr>
        <p:sp>
          <p:nvSpPr>
            <p:cNvPr id="9" name="Line 143"/>
            <p:cNvSpPr/>
            <p:nvPr/>
          </p:nvSpPr>
          <p:spPr>
            <a:xfrm>
              <a:off x="10739520" y="378144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44"/>
            <p:cNvSpPr/>
            <p:nvPr/>
          </p:nvSpPr>
          <p:spPr>
            <a:xfrm flipV="1">
              <a:off x="10882440" y="3312720"/>
              <a:ext cx="0" cy="93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227"/>
          <p:cNvGrpSpPr/>
          <p:nvPr/>
        </p:nvGrpSpPr>
        <p:grpSpPr>
          <a:xfrm>
            <a:off x="5832360" y="4355640"/>
            <a:ext cx="934920" cy="360360"/>
            <a:chOff x="5832360" y="4355640"/>
            <a:chExt cx="934920" cy="360360"/>
          </a:xfrm>
        </p:grpSpPr>
        <p:sp>
          <p:nvSpPr>
            <p:cNvPr id="12" name="Line 145"/>
            <p:cNvSpPr/>
            <p:nvPr/>
          </p:nvSpPr>
          <p:spPr>
            <a:xfrm flipV="1">
              <a:off x="6260760" y="4355640"/>
              <a:ext cx="0" cy="36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46"/>
            <p:cNvSpPr/>
            <p:nvPr/>
          </p:nvSpPr>
          <p:spPr>
            <a:xfrm>
              <a:off x="5832360" y="4444560"/>
              <a:ext cx="9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Group 229"/>
          <p:cNvGrpSpPr/>
          <p:nvPr/>
        </p:nvGrpSpPr>
        <p:grpSpPr>
          <a:xfrm>
            <a:off x="5832360" y="2771280"/>
            <a:ext cx="934920" cy="360360"/>
            <a:chOff x="5832360" y="2771280"/>
            <a:chExt cx="934920" cy="360360"/>
          </a:xfrm>
        </p:grpSpPr>
        <p:sp>
          <p:nvSpPr>
            <p:cNvPr id="15" name="Line 147"/>
            <p:cNvSpPr/>
            <p:nvPr/>
          </p:nvSpPr>
          <p:spPr>
            <a:xfrm flipV="1">
              <a:off x="6261120" y="2771280"/>
              <a:ext cx="0" cy="36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48"/>
            <p:cNvSpPr/>
            <p:nvPr/>
          </p:nvSpPr>
          <p:spPr>
            <a:xfrm>
              <a:off x="5832360" y="3060360"/>
              <a:ext cx="9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Group 149"/>
          <p:cNvGrpSpPr/>
          <p:nvPr/>
        </p:nvGrpSpPr>
        <p:grpSpPr>
          <a:xfrm>
            <a:off x="10623240" y="4263840"/>
            <a:ext cx="470160" cy="469800"/>
            <a:chOff x="10623240" y="4263840"/>
            <a:chExt cx="470160" cy="469800"/>
          </a:xfrm>
        </p:grpSpPr>
        <p:sp>
          <p:nvSpPr>
            <p:cNvPr id="18" name="Line 150"/>
            <p:cNvSpPr/>
            <p:nvPr/>
          </p:nvSpPr>
          <p:spPr>
            <a:xfrm flipV="1">
              <a:off x="10623240" y="4373280"/>
              <a:ext cx="0" cy="36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151"/>
            <p:cNvSpPr/>
            <p:nvPr/>
          </p:nvSpPr>
          <p:spPr>
            <a:xfrm>
              <a:off x="10625040" y="4376520"/>
              <a:ext cx="468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152"/>
            <p:cNvSpPr/>
            <p:nvPr/>
          </p:nvSpPr>
          <p:spPr>
            <a:xfrm>
              <a:off x="10733040" y="426384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153"/>
            <p:cNvSpPr/>
            <p:nvPr/>
          </p:nvSpPr>
          <p:spPr>
            <a:xfrm flipV="1">
              <a:off x="10728000" y="4265280"/>
              <a:ext cx="0" cy="46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159"/>
          <p:cNvGrpSpPr/>
          <p:nvPr/>
        </p:nvGrpSpPr>
        <p:grpSpPr>
          <a:xfrm>
            <a:off x="1509480" y="2827440"/>
            <a:ext cx="468360" cy="468360"/>
            <a:chOff x="1509480" y="2827440"/>
            <a:chExt cx="468360" cy="468360"/>
          </a:xfrm>
        </p:grpSpPr>
        <p:sp>
          <p:nvSpPr>
            <p:cNvPr id="23" name="Line 160"/>
            <p:cNvSpPr/>
            <p:nvPr/>
          </p:nvSpPr>
          <p:spPr>
            <a:xfrm>
              <a:off x="1977840" y="2827440"/>
              <a:ext cx="0" cy="36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161"/>
            <p:cNvSpPr/>
            <p:nvPr/>
          </p:nvSpPr>
          <p:spPr>
            <a:xfrm flipH="1">
              <a:off x="1509480" y="3182760"/>
              <a:ext cx="468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162"/>
            <p:cNvSpPr/>
            <p:nvPr/>
          </p:nvSpPr>
          <p:spPr>
            <a:xfrm flipH="1">
              <a:off x="1509480" y="329544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163"/>
            <p:cNvSpPr/>
            <p:nvPr/>
          </p:nvSpPr>
          <p:spPr>
            <a:xfrm>
              <a:off x="1873080" y="2827440"/>
              <a:ext cx="0" cy="46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154"/>
          <p:cNvGrpSpPr/>
          <p:nvPr/>
        </p:nvGrpSpPr>
        <p:grpSpPr>
          <a:xfrm>
            <a:off x="10616760" y="2827080"/>
            <a:ext cx="468360" cy="468360"/>
            <a:chOff x="10616760" y="2827080"/>
            <a:chExt cx="468360" cy="468360"/>
          </a:xfrm>
        </p:grpSpPr>
        <p:sp>
          <p:nvSpPr>
            <p:cNvPr id="28" name="Line 155"/>
            <p:cNvSpPr/>
            <p:nvPr/>
          </p:nvSpPr>
          <p:spPr>
            <a:xfrm flipH="1">
              <a:off x="10724760" y="329544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156"/>
            <p:cNvSpPr/>
            <p:nvPr/>
          </p:nvSpPr>
          <p:spPr>
            <a:xfrm flipV="1">
              <a:off x="10729800" y="2827080"/>
              <a:ext cx="0" cy="46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157"/>
            <p:cNvSpPr/>
            <p:nvPr/>
          </p:nvSpPr>
          <p:spPr>
            <a:xfrm flipV="1">
              <a:off x="10617120" y="2827080"/>
              <a:ext cx="0" cy="36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158"/>
            <p:cNvSpPr/>
            <p:nvPr/>
          </p:nvSpPr>
          <p:spPr>
            <a:xfrm flipH="1">
              <a:off x="10616760" y="3190680"/>
              <a:ext cx="468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2:34:56Z</dcterms:created>
  <dc:creator>owner</dc:creator>
  <dc:description/>
  <dc:language>en-US</dc:language>
  <cp:lastModifiedBy>SPOod-130430-01</cp:lastModifiedBy>
  <cp:lastPrinted>2014-10-30T07:27:54Z</cp:lastPrinted>
  <dcterms:modified xsi:type="dcterms:W3CDTF">2022-10-30T02:23:51Z</dcterms:modified>
  <cp:revision>30</cp:revision>
  <dc:subject/>
  <dc:title>スライド 1</dc:title>
</cp:coreProperties>
</file>