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9675" cy="10691813"/>
  <p:notesSz cx="10234613" cy="14662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ガイド（入稿時に削除してください）"/>
          <p:cNvGrpSpPr/>
          <p:nvPr/>
        </p:nvGrpSpPr>
        <p:grpSpPr>
          <a:xfrm>
            <a:off x="247320" y="963720"/>
            <a:ext cx="5686920" cy="9345600"/>
            <a:chOff x="247320" y="963720"/>
            <a:chExt cx="5686920" cy="9345600"/>
          </a:xfrm>
        </p:grpSpPr>
        <p:grpSp>
          <p:nvGrpSpPr>
            <p:cNvPr id="1" name="グループ化 3"/>
            <p:cNvGrpSpPr/>
            <p:nvPr/>
          </p:nvGrpSpPr>
          <p:grpSpPr>
            <a:xfrm>
              <a:off x="674280" y="1901520"/>
              <a:ext cx="178560" cy="6589800"/>
              <a:chOff x="674280" y="1901520"/>
              <a:chExt cx="178560" cy="6589800"/>
            </a:xfrm>
          </p:grpSpPr>
          <p:sp>
            <p:nvSpPr>
              <p:cNvPr id="2" name="Line 48"/>
              <p:cNvSpPr/>
              <p:nvPr/>
            </p:nvSpPr>
            <p:spPr>
              <a:xfrm flipH="1">
                <a:off x="678960" y="1902240"/>
                <a:ext cx="1738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Line 49"/>
              <p:cNvSpPr/>
              <p:nvPr/>
            </p:nvSpPr>
            <p:spPr>
              <a:xfrm flipH="1">
                <a:off x="674280" y="8491320"/>
                <a:ext cx="1738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50"/>
              <p:cNvSpPr/>
              <p:nvPr/>
            </p:nvSpPr>
            <p:spPr>
              <a:xfrm>
                <a:off x="760680" y="1901520"/>
                <a:ext cx="0" cy="658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lg"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" name="グループ化 4"/>
            <p:cNvGrpSpPr/>
            <p:nvPr/>
          </p:nvGrpSpPr>
          <p:grpSpPr>
            <a:xfrm>
              <a:off x="247320" y="963720"/>
              <a:ext cx="5686920" cy="9345600"/>
              <a:chOff x="247320" y="963720"/>
              <a:chExt cx="5686920" cy="9345600"/>
            </a:xfrm>
          </p:grpSpPr>
          <p:grpSp>
            <p:nvGrpSpPr>
              <p:cNvPr id="6" name="グループ化 6"/>
              <p:cNvGrpSpPr/>
              <p:nvPr/>
            </p:nvGrpSpPr>
            <p:grpSpPr>
              <a:xfrm>
                <a:off x="1649520" y="963720"/>
                <a:ext cx="4284720" cy="7924320"/>
                <a:chOff x="1649520" y="963720"/>
                <a:chExt cx="4284720" cy="7924320"/>
              </a:xfrm>
            </p:grpSpPr>
            <p:sp>
              <p:nvSpPr>
                <p:cNvPr id="7" name="AutoShape 43"/>
                <p:cNvSpPr/>
                <p:nvPr/>
              </p:nvSpPr>
              <p:spPr>
                <a:xfrm rot="10800000">
                  <a:off x="1649520" y="963360"/>
                  <a:ext cx="4284720" cy="830160"/>
                </a:xfrm>
                <a:custGeom>
                  <a:avLst/>
                  <a:gdLst/>
                  <a:ahLst/>
                  <a:rect l="l" t="t" r="r" b="b"/>
                  <a:pathLst>
                    <a:path w="21600" h="21662">
                      <a:moveTo>
                        <a:pt x="0" y="0"/>
                      </a:moveTo>
                      <a:lnTo>
                        <a:pt x="1371" y="21538"/>
                      </a:lnTo>
                      <a:lnTo>
                        <a:pt x="20145" y="21662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" name="グループ化 36"/>
                <p:cNvGrpSpPr/>
                <p:nvPr/>
              </p:nvGrpSpPr>
              <p:grpSpPr>
                <a:xfrm>
                  <a:off x="1649520" y="1796040"/>
                  <a:ext cx="4284360" cy="7092000"/>
                  <a:chOff x="1649520" y="1796040"/>
                  <a:chExt cx="4284360" cy="7092000"/>
                </a:xfrm>
              </p:grpSpPr>
              <p:sp>
                <p:nvSpPr>
                  <p:cNvPr id="9" name="Rectangle 40"/>
                  <p:cNvSpPr/>
                  <p:nvPr/>
                </p:nvSpPr>
                <p:spPr>
                  <a:xfrm>
                    <a:off x="1649520" y="1796040"/>
                    <a:ext cx="4284360" cy="709200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b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" name="グループ化 39"/>
                  <p:cNvGrpSpPr/>
                  <p:nvPr/>
                </p:nvGrpSpPr>
                <p:grpSpPr>
                  <a:xfrm>
                    <a:off x="1834920" y="1902600"/>
                    <a:ext cx="3924000" cy="6586920"/>
                    <a:chOff x="1834920" y="1902600"/>
                    <a:chExt cx="3924000" cy="6586920"/>
                  </a:xfrm>
                </p:grpSpPr>
                <p:sp>
                  <p:nvSpPr>
                    <p:cNvPr id="11" name="Rectangle 41"/>
                    <p:cNvSpPr/>
                    <p:nvPr/>
                  </p:nvSpPr>
                  <p:spPr>
                    <a:xfrm>
                      <a:off x="1834920" y="1902600"/>
                      <a:ext cx="3924000" cy="6586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" name="Rectangle 42"/>
                    <p:cNvSpPr/>
                    <p:nvPr/>
                  </p:nvSpPr>
                  <p:spPr>
                    <a:xfrm>
                      <a:off x="2266560" y="2116800"/>
                      <a:ext cx="3492360" cy="6118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prstDash val="dash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3" name="Text Box 44"/>
                <p:cNvSpPr/>
                <p:nvPr/>
              </p:nvSpPr>
              <p:spPr>
                <a:xfrm>
                  <a:off x="1868400" y="1089000"/>
                  <a:ext cx="3864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1042920"/>
                      <a:tab algn="l" pos="2085840"/>
                      <a:tab algn="l" pos="3129120"/>
                      <a:tab algn="l" pos="4172040"/>
                      <a:tab algn="l" pos="5214960"/>
                      <a:tab algn="l" pos="6257880"/>
                      <a:tab algn="l" pos="7300800"/>
                      <a:tab algn="l" pos="8344080"/>
                      <a:tab algn="l" pos="9387000"/>
                      <a:tab algn="l" pos="10429920"/>
                    </a:tabLst>
                  </a:pPr>
                  <a:r>
                    <a:rPr b="1" lang="ja-JP" sz="2400" spc="-1" strike="noStrike">
                      <a:solidFill>
                        <a:srgbClr val="99ccff"/>
                      </a:solidFill>
                      <a:latin typeface="Arial"/>
                      <a:ea typeface="ＭＳ ゴシック"/>
                    </a:rPr>
                    <a:t>斜線部分は印刷できません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グループ化 7"/>
              <p:cNvGrpSpPr/>
              <p:nvPr/>
            </p:nvGrpSpPr>
            <p:grpSpPr>
              <a:xfrm>
                <a:off x="247320" y="1794600"/>
                <a:ext cx="5682240" cy="8514720"/>
                <a:chOff x="247320" y="1794600"/>
                <a:chExt cx="5682240" cy="8514720"/>
              </a:xfrm>
            </p:grpSpPr>
            <p:grpSp>
              <p:nvGrpSpPr>
                <p:cNvPr id="15" name="グループ化 8"/>
                <p:cNvGrpSpPr/>
                <p:nvPr/>
              </p:nvGrpSpPr>
              <p:grpSpPr>
                <a:xfrm>
                  <a:off x="247320" y="1794600"/>
                  <a:ext cx="974160" cy="7092000"/>
                  <a:chOff x="247320" y="1794600"/>
                  <a:chExt cx="974160" cy="7092000"/>
                </a:xfrm>
              </p:grpSpPr>
              <p:grpSp>
                <p:nvGrpSpPr>
                  <p:cNvPr id="16" name="グループ化 24"/>
                  <p:cNvGrpSpPr/>
                  <p:nvPr/>
                </p:nvGrpSpPr>
                <p:grpSpPr>
                  <a:xfrm>
                    <a:off x="247320" y="1794600"/>
                    <a:ext cx="782280" cy="7092000"/>
                    <a:chOff x="247320" y="1794600"/>
                    <a:chExt cx="782280" cy="7092000"/>
                  </a:xfrm>
                </p:grpSpPr>
                <p:sp>
                  <p:nvSpPr>
                    <p:cNvPr id="17" name="Line 45"/>
                    <p:cNvSpPr/>
                    <p:nvPr/>
                  </p:nvSpPr>
                  <p:spPr>
                    <a:xfrm flipH="1">
                      <a:off x="272520" y="1794600"/>
                      <a:ext cx="757080" cy="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" name="Line 46"/>
                    <p:cNvSpPr/>
                    <p:nvPr/>
                  </p:nvSpPr>
                  <p:spPr>
                    <a:xfrm flipH="1">
                      <a:off x="247320" y="8877240"/>
                      <a:ext cx="757080" cy="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" name="Line 47"/>
                    <p:cNvSpPr/>
                    <p:nvPr/>
                  </p:nvSpPr>
                  <p:spPr>
                    <a:xfrm>
                      <a:off x="416160" y="1794600"/>
                      <a:ext cx="0" cy="70920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headEnd len="lg" type="stealth" w="lg"/>
                      <a:tailEnd len="lg" type="stealth" w="lg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" name="グループ化 25"/>
                  <p:cNvGrpSpPr/>
                  <p:nvPr/>
                </p:nvGrpSpPr>
                <p:grpSpPr>
                  <a:xfrm>
                    <a:off x="1025280" y="2116440"/>
                    <a:ext cx="177480" cy="6120000"/>
                    <a:chOff x="1025280" y="2116440"/>
                    <a:chExt cx="177480" cy="6120000"/>
                  </a:xfrm>
                </p:grpSpPr>
                <p:sp>
                  <p:nvSpPr>
                    <p:cNvPr id="21" name="Line 51"/>
                    <p:cNvSpPr/>
                    <p:nvPr/>
                  </p:nvSpPr>
                  <p:spPr>
                    <a:xfrm flipH="1">
                      <a:off x="1029960" y="2122560"/>
                      <a:ext cx="172800" cy="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" name="Line 52"/>
                    <p:cNvSpPr/>
                    <p:nvPr/>
                  </p:nvSpPr>
                  <p:spPr>
                    <a:xfrm flipH="1">
                      <a:off x="1025280" y="8231760"/>
                      <a:ext cx="172800" cy="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" name="Line 53"/>
                    <p:cNvSpPr/>
                    <p:nvPr/>
                  </p:nvSpPr>
                  <p:spPr>
                    <a:xfrm>
                      <a:off x="1112400" y="2116440"/>
                      <a:ext cx="0" cy="61200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headEnd len="lg" type="stealth" w="lg"/>
                      <a:tailEnd len="lg" type="stealth" w="lg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" name="Text Box 59"/>
                  <p:cNvSpPr/>
                  <p:nvPr/>
                </p:nvSpPr>
                <p:spPr>
                  <a:xfrm rot="5400000">
                    <a:off x="401760" y="3977640"/>
                    <a:ext cx="1407960" cy="2311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1042920"/>
                        <a:tab algn="l" pos="2085840"/>
                        <a:tab algn="l" pos="3129120"/>
                        <a:tab algn="l" pos="4172040"/>
                        <a:tab algn="l" pos="5214960"/>
                        <a:tab algn="l" pos="6257880"/>
                        <a:tab algn="l" pos="7300800"/>
                        <a:tab algn="l" pos="8344080"/>
                        <a:tab algn="l" pos="9387000"/>
                        <a:tab algn="l" pos="10429920"/>
                      </a:tabLst>
                    </a:pPr>
                    <a:r>
                      <a:rPr b="0" lang="ja-JP" sz="900" spc="-1" strike="noStrike">
                        <a:solidFill>
                          <a:srgbClr val="ff0000"/>
                        </a:solidFill>
                        <a:latin typeface="ＭＳ ゴシック"/>
                        <a:ea typeface="ＭＳ ゴシック"/>
                      </a:rPr>
                      <a:t>印刷可能範囲①</a:t>
                    </a:r>
                    <a:r>
                      <a:rPr b="1" lang="en-US" sz="900" spc="-1" strike="noStrike">
                        <a:solidFill>
                          <a:srgbClr val="ff0000"/>
                        </a:solidFill>
                        <a:latin typeface="Arial"/>
                        <a:ea typeface="ＭＳ ゴシック"/>
                      </a:rPr>
                      <a:t>170mm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" name="Text Box 60"/>
                  <p:cNvSpPr/>
                  <p:nvPr/>
                </p:nvSpPr>
                <p:spPr>
                  <a:xfrm rot="5400000">
                    <a:off x="52200" y="6473520"/>
                    <a:ext cx="1427040" cy="2311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1042920"/>
                        <a:tab algn="l" pos="2085840"/>
                        <a:tab algn="l" pos="3129120"/>
                        <a:tab algn="l" pos="4172040"/>
                        <a:tab algn="l" pos="5214960"/>
                        <a:tab algn="l" pos="6257880"/>
                        <a:tab algn="l" pos="7300800"/>
                        <a:tab algn="l" pos="8344080"/>
                        <a:tab algn="l" pos="9387000"/>
                        <a:tab algn="l" pos="10429920"/>
                      </a:tabLst>
                    </a:pPr>
                    <a:r>
                      <a:rPr b="0" lang="ja-JP" sz="900" spc="-1" strike="noStrike">
                        <a:solidFill>
                          <a:srgbClr val="ff0000"/>
                        </a:solidFill>
                        <a:latin typeface="ＭＳ ゴシック"/>
                        <a:ea typeface="ＭＳ ゴシック"/>
                      </a:rPr>
                      <a:t>印刷可能範囲②</a:t>
                    </a:r>
                    <a:r>
                      <a:rPr b="1" lang="en-US" sz="900" spc="-1" strike="noStrike">
                        <a:solidFill>
                          <a:srgbClr val="ff0000"/>
                        </a:solidFill>
                        <a:latin typeface="Arial"/>
                        <a:ea typeface="ＭＳ ゴシック"/>
                      </a:rPr>
                      <a:t>183mm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Text Box 61"/>
                  <p:cNvSpPr/>
                  <p:nvPr/>
                </p:nvSpPr>
                <p:spPr>
                  <a:xfrm rot="5400000">
                    <a:off x="118440" y="5221080"/>
                    <a:ext cx="598320" cy="2311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561"/>
                      </a:spcBef>
                      <a:tabLst>
                        <a:tab algn="l" pos="0"/>
                        <a:tab algn="l" pos="1042920"/>
                        <a:tab algn="l" pos="2085840"/>
                        <a:tab algn="l" pos="3129120"/>
                        <a:tab algn="l" pos="4172040"/>
                        <a:tab algn="l" pos="5214960"/>
                        <a:tab algn="l" pos="6257880"/>
                        <a:tab algn="l" pos="7300800"/>
                        <a:tab algn="l" pos="8344080"/>
                        <a:tab algn="l" pos="9387000"/>
                        <a:tab algn="l" pos="10429920"/>
                      </a:tabLst>
                    </a:pPr>
                    <a:r>
                      <a:rPr b="1" lang="en-US" sz="900" spc="-1" strike="noStrike">
                        <a:solidFill>
                          <a:srgbClr val="ff0000"/>
                        </a:solidFill>
                        <a:latin typeface="Arial"/>
                        <a:ea typeface="ＭＳ ゴシック"/>
                      </a:rPr>
                      <a:t>197mm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グループ化 9"/>
                <p:cNvGrpSpPr/>
                <p:nvPr/>
              </p:nvGrpSpPr>
              <p:grpSpPr>
                <a:xfrm>
                  <a:off x="1646280" y="9469800"/>
                  <a:ext cx="4283280" cy="839520"/>
                  <a:chOff x="1646280" y="9469800"/>
                  <a:chExt cx="4283280" cy="839520"/>
                </a:xfrm>
              </p:grpSpPr>
              <p:grpSp>
                <p:nvGrpSpPr>
                  <p:cNvPr id="28" name="グループ化 10"/>
                  <p:cNvGrpSpPr/>
                  <p:nvPr/>
                </p:nvGrpSpPr>
                <p:grpSpPr>
                  <a:xfrm>
                    <a:off x="1646280" y="9469800"/>
                    <a:ext cx="4283280" cy="839520"/>
                    <a:chOff x="1646280" y="9469800"/>
                    <a:chExt cx="4283280" cy="839520"/>
                  </a:xfrm>
                </p:grpSpPr>
                <p:sp>
                  <p:nvSpPr>
                    <p:cNvPr id="29" name="Line 54"/>
                    <p:cNvSpPr/>
                    <p:nvPr/>
                  </p:nvSpPr>
                  <p:spPr>
                    <a:xfrm flipV="1">
                      <a:off x="5929560" y="9469800"/>
                      <a:ext cx="0" cy="83808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" name="Line 55"/>
                    <p:cNvSpPr/>
                    <p:nvPr/>
                  </p:nvSpPr>
                  <p:spPr>
                    <a:xfrm flipV="1">
                      <a:off x="1651320" y="9469800"/>
                      <a:ext cx="0" cy="83952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" name="Line 56"/>
                    <p:cNvSpPr/>
                    <p:nvPr/>
                  </p:nvSpPr>
                  <p:spPr>
                    <a:xfrm flipH="1">
                      <a:off x="1646280" y="10177560"/>
                      <a:ext cx="4282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headEnd len="lg" type="stealth" w="lg"/>
                      <a:tailEnd len="lg" type="stealth" w="lg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" name="グループ化 11"/>
                  <p:cNvGrpSpPr/>
                  <p:nvPr/>
                </p:nvGrpSpPr>
                <p:grpSpPr>
                  <a:xfrm>
                    <a:off x="1825920" y="9469800"/>
                    <a:ext cx="3927960" cy="832320"/>
                    <a:chOff x="1825920" y="9469800"/>
                    <a:chExt cx="3927960" cy="832320"/>
                  </a:xfrm>
                </p:grpSpPr>
                <p:grpSp>
                  <p:nvGrpSpPr>
                    <p:cNvPr id="33" name="グループ化 12"/>
                    <p:cNvGrpSpPr/>
                    <p:nvPr/>
                  </p:nvGrpSpPr>
                  <p:grpSpPr>
                    <a:xfrm>
                      <a:off x="1825920" y="9469800"/>
                      <a:ext cx="3927960" cy="546480"/>
                      <a:chOff x="1825920" y="9469800"/>
                      <a:chExt cx="3927960" cy="546480"/>
                    </a:xfrm>
                  </p:grpSpPr>
                  <p:sp>
                    <p:nvSpPr>
                      <p:cNvPr id="34" name="Line 57"/>
                      <p:cNvSpPr/>
                      <p:nvPr/>
                    </p:nvSpPr>
                    <p:spPr>
                      <a:xfrm flipV="1">
                        <a:off x="1825920" y="9786240"/>
                        <a:ext cx="0" cy="17244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" name="Line 58"/>
                      <p:cNvSpPr/>
                      <p:nvPr/>
                    </p:nvSpPr>
                    <p:spPr>
                      <a:xfrm flipV="1">
                        <a:off x="5753880" y="9469800"/>
                        <a:ext cx="0" cy="54648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6" name="Line 62"/>
                      <p:cNvSpPr/>
                      <p:nvPr/>
                    </p:nvSpPr>
                    <p:spPr>
                      <a:xfrm flipH="1">
                        <a:off x="1828440" y="9867600"/>
                        <a:ext cx="39250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  <a:headEnd len="lg" type="stealth" w="lg"/>
                        <a:tailEnd len="lg" type="stealth" w="lg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" name="Line 63"/>
                      <p:cNvSpPr/>
                      <p:nvPr/>
                    </p:nvSpPr>
                    <p:spPr>
                      <a:xfrm flipV="1">
                        <a:off x="2257560" y="9496080"/>
                        <a:ext cx="0" cy="16452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" name="Line 64"/>
                      <p:cNvSpPr/>
                      <p:nvPr/>
                    </p:nvSpPr>
                    <p:spPr>
                      <a:xfrm flipH="1">
                        <a:off x="2260440" y="9577440"/>
                        <a:ext cx="34930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  <a:headEnd len="lg" type="stealth" w="lg"/>
                        <a:tailEnd len="lg" type="stealth" w="lg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9" name="Text Box 65"/>
                    <p:cNvSpPr/>
                    <p:nvPr/>
                  </p:nvSpPr>
                  <p:spPr>
                    <a:xfrm>
                      <a:off x="3489480" y="9469800"/>
                      <a:ext cx="1314360" cy="2311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ja-JP" sz="900" spc="-1" strike="noStrike">
                          <a:solidFill>
                            <a:srgbClr val="ff0000"/>
                          </a:solidFill>
                          <a:latin typeface="ＭＳ ゴシック"/>
                          <a:ea typeface="ＭＳ ゴシック"/>
                        </a:rPr>
                        <a:t>印刷可能範囲①</a:t>
                      </a: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Arial"/>
                          <a:ea typeface="ＭＳ ゴシック"/>
                        </a:rPr>
                        <a:t>97m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" name="Text Box 66"/>
                    <p:cNvSpPr/>
                    <p:nvPr/>
                  </p:nvSpPr>
                  <p:spPr>
                    <a:xfrm>
                      <a:off x="3559320" y="10071000"/>
                      <a:ext cx="587160" cy="2311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Arial"/>
                          <a:ea typeface="ＭＳ ゴシック"/>
                        </a:rPr>
                        <a:t>119m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" name="Text Box 67"/>
                    <p:cNvSpPr/>
                    <p:nvPr/>
                  </p:nvSpPr>
                  <p:spPr>
                    <a:xfrm>
                      <a:off x="2970000" y="9758520"/>
                      <a:ext cx="1411560" cy="2311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ja-JP" sz="900" spc="-1" strike="noStrike">
                          <a:solidFill>
                            <a:srgbClr val="ff0000"/>
                          </a:solidFill>
                          <a:latin typeface="ＭＳ ゴシック"/>
                          <a:ea typeface="ＭＳ ゴシック"/>
                        </a:rPr>
                        <a:t>印刷可能範囲②</a:t>
                      </a: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Arial"/>
                          <a:ea typeface="ＭＳ ゴシック"/>
                        </a:rPr>
                        <a:t>109m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42" name="トンボ"/>
          <p:cNvGrpSpPr/>
          <p:nvPr/>
        </p:nvGrpSpPr>
        <p:grpSpPr>
          <a:xfrm>
            <a:off x="1184400" y="1342800"/>
            <a:ext cx="5208480" cy="8006040"/>
            <a:chOff x="1184400" y="1342800"/>
            <a:chExt cx="5208480" cy="8006040"/>
          </a:xfrm>
        </p:grpSpPr>
        <p:grpSp>
          <p:nvGrpSpPr>
            <p:cNvPr id="43" name="グループ化 46"/>
            <p:cNvGrpSpPr/>
            <p:nvPr/>
          </p:nvGrpSpPr>
          <p:grpSpPr>
            <a:xfrm>
              <a:off x="1184400" y="1368000"/>
              <a:ext cx="5208480" cy="7980840"/>
              <a:chOff x="1184400" y="1368000"/>
              <a:chExt cx="5208480" cy="7980840"/>
            </a:xfrm>
          </p:grpSpPr>
          <p:grpSp>
            <p:nvGrpSpPr>
              <p:cNvPr id="44" name="Group 8"/>
              <p:cNvGrpSpPr/>
              <p:nvPr/>
            </p:nvGrpSpPr>
            <p:grpSpPr>
              <a:xfrm>
                <a:off x="1214280" y="1368360"/>
                <a:ext cx="439560" cy="429840"/>
                <a:chOff x="1214280" y="1368360"/>
                <a:chExt cx="439560" cy="429840"/>
              </a:xfrm>
            </p:grpSpPr>
            <p:sp>
              <p:nvSpPr>
                <p:cNvPr id="45" name="Line 9"/>
                <p:cNvSpPr/>
                <p:nvPr/>
              </p:nvSpPr>
              <p:spPr>
                <a:xfrm flipH="1">
                  <a:off x="1214280" y="1688040"/>
                  <a:ext cx="439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Line 10"/>
                <p:cNvSpPr/>
                <p:nvPr/>
              </p:nvSpPr>
              <p:spPr>
                <a:xfrm flipV="1">
                  <a:off x="1542600" y="1369800"/>
                  <a:ext cx="0" cy="428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Line 11"/>
                <p:cNvSpPr/>
                <p:nvPr/>
              </p:nvSpPr>
              <p:spPr>
                <a:xfrm flipH="1">
                  <a:off x="1215720" y="1797120"/>
                  <a:ext cx="32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Line 12"/>
                <p:cNvSpPr/>
                <p:nvPr/>
              </p:nvSpPr>
              <p:spPr>
                <a:xfrm flipV="1">
                  <a:off x="1652400" y="1368360"/>
                  <a:ext cx="0" cy="316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" name="Group 13"/>
              <p:cNvGrpSpPr/>
              <p:nvPr/>
            </p:nvGrpSpPr>
            <p:grpSpPr>
              <a:xfrm>
                <a:off x="1215720" y="8882280"/>
                <a:ext cx="436680" cy="442800"/>
                <a:chOff x="1215720" y="8882280"/>
                <a:chExt cx="436680" cy="442800"/>
              </a:xfrm>
            </p:grpSpPr>
            <p:sp>
              <p:nvSpPr>
                <p:cNvPr id="50" name="Line 14"/>
                <p:cNvSpPr/>
                <p:nvPr/>
              </p:nvSpPr>
              <p:spPr>
                <a:xfrm>
                  <a:off x="1541520" y="8882280"/>
                  <a:ext cx="0" cy="442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Line 15"/>
                <p:cNvSpPr/>
                <p:nvPr/>
              </p:nvSpPr>
              <p:spPr>
                <a:xfrm flipH="1">
                  <a:off x="1215720" y="8993160"/>
                  <a:ext cx="433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Line 16"/>
                <p:cNvSpPr/>
                <p:nvPr/>
              </p:nvSpPr>
              <p:spPr>
                <a:xfrm>
                  <a:off x="1652400" y="8990280"/>
                  <a:ext cx="0" cy="334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Line 17"/>
                <p:cNvSpPr/>
                <p:nvPr/>
              </p:nvSpPr>
              <p:spPr>
                <a:xfrm flipH="1">
                  <a:off x="1216440" y="8885520"/>
                  <a:ext cx="32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Group 18"/>
              <p:cNvGrpSpPr/>
              <p:nvPr/>
            </p:nvGrpSpPr>
            <p:grpSpPr>
              <a:xfrm>
                <a:off x="5928840" y="8883360"/>
                <a:ext cx="433080" cy="442800"/>
                <a:chOff x="5928840" y="8883360"/>
                <a:chExt cx="433080" cy="442800"/>
              </a:xfrm>
            </p:grpSpPr>
            <p:sp>
              <p:nvSpPr>
                <p:cNvPr id="55" name="Line 19"/>
                <p:cNvSpPr/>
                <p:nvPr/>
              </p:nvSpPr>
              <p:spPr>
                <a:xfrm>
                  <a:off x="5928840" y="8990640"/>
                  <a:ext cx="433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Line 20"/>
                <p:cNvSpPr/>
                <p:nvPr/>
              </p:nvSpPr>
              <p:spPr>
                <a:xfrm>
                  <a:off x="6036480" y="8883360"/>
                  <a:ext cx="0" cy="441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Line 21"/>
                <p:cNvSpPr/>
                <p:nvPr/>
              </p:nvSpPr>
              <p:spPr>
                <a:xfrm>
                  <a:off x="6037920" y="8884800"/>
                  <a:ext cx="323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Line 22"/>
                <p:cNvSpPr/>
                <p:nvPr/>
              </p:nvSpPr>
              <p:spPr>
                <a:xfrm>
                  <a:off x="5929920" y="8991000"/>
                  <a:ext cx="0" cy="335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Group 23"/>
              <p:cNvGrpSpPr/>
              <p:nvPr/>
            </p:nvGrpSpPr>
            <p:grpSpPr>
              <a:xfrm>
                <a:off x="5930640" y="1368000"/>
                <a:ext cx="431640" cy="434520"/>
                <a:chOff x="5930640" y="1368000"/>
                <a:chExt cx="431640" cy="434520"/>
              </a:xfrm>
            </p:grpSpPr>
            <p:sp>
              <p:nvSpPr>
                <p:cNvPr id="60" name="Line 24"/>
                <p:cNvSpPr/>
                <p:nvPr/>
              </p:nvSpPr>
              <p:spPr>
                <a:xfrm flipV="1">
                  <a:off x="6043320" y="1369440"/>
                  <a:ext cx="0" cy="43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Line 25"/>
                <p:cNvSpPr/>
                <p:nvPr/>
              </p:nvSpPr>
              <p:spPr>
                <a:xfrm>
                  <a:off x="5930640" y="1693440"/>
                  <a:ext cx="431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Line 26"/>
                <p:cNvSpPr/>
                <p:nvPr/>
              </p:nvSpPr>
              <p:spPr>
                <a:xfrm flipV="1">
                  <a:off x="5935320" y="1368000"/>
                  <a:ext cx="0" cy="324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Line 27"/>
                <p:cNvSpPr/>
                <p:nvPr/>
              </p:nvSpPr>
              <p:spPr>
                <a:xfrm>
                  <a:off x="6044760" y="1802520"/>
                  <a:ext cx="317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" name="Group 31"/>
              <p:cNvGrpSpPr/>
              <p:nvPr/>
            </p:nvGrpSpPr>
            <p:grpSpPr>
              <a:xfrm>
                <a:off x="3330720" y="9029880"/>
                <a:ext cx="914040" cy="318960"/>
                <a:chOff x="3330720" y="9029880"/>
                <a:chExt cx="914040" cy="318960"/>
              </a:xfrm>
            </p:grpSpPr>
            <p:sp>
              <p:nvSpPr>
                <p:cNvPr id="65" name="Line 32"/>
                <p:cNvSpPr/>
                <p:nvPr/>
              </p:nvSpPr>
              <p:spPr>
                <a:xfrm>
                  <a:off x="3330720" y="9121680"/>
                  <a:ext cx="914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Line 33"/>
                <p:cNvSpPr/>
                <p:nvPr/>
              </p:nvSpPr>
              <p:spPr>
                <a:xfrm>
                  <a:off x="3785760" y="9029880"/>
                  <a:ext cx="0" cy="3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" name="Group 34"/>
              <p:cNvGrpSpPr/>
              <p:nvPr/>
            </p:nvGrpSpPr>
            <p:grpSpPr>
              <a:xfrm>
                <a:off x="1184400" y="4884480"/>
                <a:ext cx="303120" cy="919080"/>
                <a:chOff x="1184400" y="4884480"/>
                <a:chExt cx="303120" cy="919080"/>
              </a:xfrm>
            </p:grpSpPr>
            <p:sp>
              <p:nvSpPr>
                <p:cNvPr id="68" name="Line 35"/>
                <p:cNvSpPr/>
                <p:nvPr/>
              </p:nvSpPr>
              <p:spPr>
                <a:xfrm>
                  <a:off x="1416240" y="4884480"/>
                  <a:ext cx="0" cy="91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Line 36"/>
                <p:cNvSpPr/>
                <p:nvPr/>
              </p:nvSpPr>
              <p:spPr>
                <a:xfrm flipH="1">
                  <a:off x="1184400" y="5339160"/>
                  <a:ext cx="303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" name="Group 37"/>
              <p:cNvGrpSpPr/>
              <p:nvPr/>
            </p:nvGrpSpPr>
            <p:grpSpPr>
              <a:xfrm>
                <a:off x="6096240" y="4884120"/>
                <a:ext cx="296640" cy="919080"/>
                <a:chOff x="6096240" y="4884120"/>
                <a:chExt cx="296640" cy="919080"/>
              </a:xfrm>
            </p:grpSpPr>
            <p:sp>
              <p:nvSpPr>
                <p:cNvPr id="71" name="Line 38"/>
                <p:cNvSpPr/>
                <p:nvPr/>
              </p:nvSpPr>
              <p:spPr>
                <a:xfrm flipV="1">
                  <a:off x="6164280" y="4884120"/>
                  <a:ext cx="0" cy="91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Line 39"/>
                <p:cNvSpPr/>
                <p:nvPr/>
              </p:nvSpPr>
              <p:spPr>
                <a:xfrm>
                  <a:off x="6096240" y="5342760"/>
                  <a:ext cx="296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" name="Group 28"/>
            <p:cNvGrpSpPr/>
            <p:nvPr/>
          </p:nvGrpSpPr>
          <p:grpSpPr>
            <a:xfrm>
              <a:off x="3330360" y="1342800"/>
              <a:ext cx="914040" cy="301320"/>
              <a:chOff x="3330360" y="1342800"/>
              <a:chExt cx="914040" cy="301320"/>
            </a:xfrm>
          </p:grpSpPr>
          <p:sp>
            <p:nvSpPr>
              <p:cNvPr id="74" name="Line 29"/>
              <p:cNvSpPr/>
              <p:nvPr/>
            </p:nvSpPr>
            <p:spPr>
              <a:xfrm flipH="1">
                <a:off x="3330360" y="1563480"/>
                <a:ext cx="914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30"/>
              <p:cNvSpPr/>
              <p:nvPr/>
            </p:nvSpPr>
            <p:spPr>
              <a:xfrm flipV="1">
                <a:off x="3789000" y="1342800"/>
                <a:ext cx="0" cy="30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2T05:49:09Z</dcterms:created>
  <dc:creator>owner</dc:creator>
  <dc:description/>
  <dc:language>en-US</dc:language>
  <cp:lastModifiedBy>Windows ユーザー</cp:lastModifiedBy>
  <dcterms:modified xsi:type="dcterms:W3CDTF">2023-10-06T06:23:30Z</dcterms:modified>
  <cp:revision>44</cp:revision>
  <dc:subject/>
  <dc:title>スライド 1</dc:title>
</cp:coreProperties>
</file>