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19350" cy="106918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9000" y="365040"/>
            <a:ext cx="25844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游ゴシック"/>
                <a:ea typeface="游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6EE89-9821-45F5-A930-E4963518A8E8}" type="slidenum">
              <a:rPr b="0" lang="en-US" sz="12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6BA2E-74AC-4AB5-8A5B-AE6DA649F4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79360" y="365040"/>
            <a:ext cx="2584440" cy="182736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E4A-6BF8-4930-AF78-1E7FBB65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1303992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9680" y="6389640"/>
            <a:ext cx="1303992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59C-7994-4AD1-B594-939716BB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164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9680" y="638964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1640" y="638964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676-EA09-48E1-A404-E7359670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48600" y="284652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857520" y="284652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9680" y="638964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48600" y="638964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857520" y="638964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9B3-86B1-414C-AAF0-28A8D448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9680" y="2846520"/>
            <a:ext cx="1303992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F35-4692-4477-8C9E-A5FC4CE5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1303992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43B-E215-4B04-8517-D2F8E7C4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636336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1640" y="2846520"/>
            <a:ext cx="636336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AA3-426B-4697-AA8D-E9E36177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202-3CFB-4317-B78B-E4A4BC8B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39680" y="569520"/>
            <a:ext cx="1303992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4F8-01F2-4FFC-8BF8-1ABD11A3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1640" y="2846520"/>
            <a:ext cx="636336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9680" y="638964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FF6-5F12-4112-9D8B-1E2DCA69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636336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164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1640" y="638964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038-DDB6-44B5-A6C7-AF1730A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164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9680" y="6389640"/>
            <a:ext cx="1303992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794-50FB-4065-96D4-802B01CA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39680" y="2846520"/>
            <a:ext cx="1303992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D4166-9FA4-4BAA-BE99-6D5387113DB9}" type="slidenum">
              <a:rPr b="0" lang="en-US" sz="18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G0321</dc:creator>
  <dc:description/>
  <dc:language>en-US</dc:language>
  <cp:lastModifiedBy>Windows ユーザー</cp:lastModifiedBy>
  <dcterms:modified xsi:type="dcterms:W3CDTF">2020-05-08T06:09:19Z</dcterms:modified>
  <cp:revision>9</cp:revision>
  <dc:subject/>
  <dc:title>スライド 1</dc:title>
</cp:coreProperties>
</file>